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1FE-046E-4708-AC8C-36732FFE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552-A6FD-4039-A8DF-65E607F61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4A0-7AD0-40C8-A719-99E5760B89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ema današnjeg predavanja biće merenje obima pok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6B5-C316-4BDA-BB5B-6A530D245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342-C413-4A06-83BD-4EBD7475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283-7A26-4624-A46A-F0CBEF4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C75-C301-4A14-B189-9583EEA0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8DF-2D56-4AD3-8892-43B2144E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6B31-09E0-40A5-B519-4678E44F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8B9E-14F3-419B-B092-926DCE8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98C4-E1A6-49B1-81FB-74FA3649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BBBC-833D-4F79-B31A-71FB5BAC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354-CD76-4CDC-8486-2B1D9AA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F211-07D2-4EE2-A844-FE0C4F40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753-2B9C-420E-982D-CC968D3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A80-5360-4C45-AD0F-F29DD60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2C91-F628-409F-A025-8F8FB76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5CD-A062-4906-88E5-67E7AFA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683-F349-40D5-B787-9122CD6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9393-5BDA-4B1F-A575-76040957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28E-4012-40F3-A0EB-9F1F0EB1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9B7-3C08-48BC-83D1-DDCF951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196-86A2-4638-8B10-BC29E38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C4D-D97A-40E7-8D31-5CC8E31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7E2-552F-4857-87C2-14363ED4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80A-B91F-4A35-BC63-2B3EE378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C78-3826-422D-9889-3928FF5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6CD-50AB-4A88-9091-52F1235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C26-BA0C-4FEC-A0A3-67BF4407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3EAB-80A1-44FF-B416-7B7DA9E48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800" spc="-1" strike="noStrike">
                <a:solidFill>
                  <a:srgbClr val="ccecff"/>
                </a:solidFill>
                <a:latin typeface="Arial"/>
              </a:rPr>
              <a:t>БАЗИЧНИ ЕВАЛУАЦИОНИ ТЕСТОВИ У</a:t>
            </a:r>
            <a:br>
              <a:rPr sz="4800"/>
            </a:br>
            <a:r>
              <a:rPr b="0" i="1" lang="sr-CS" sz="4800" spc="-1" strike="noStrike">
                <a:solidFill>
                  <a:srgbClr val="ccecff"/>
                </a:solidFill>
                <a:latin typeface="Arial"/>
              </a:rPr>
              <a:t>РЕХАБИЛИТАЦИЈИ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12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0" name="Rectangle 4"/>
          <p:cNvSpPr/>
          <p:nvPr/>
        </p:nvSpPr>
        <p:spPr>
          <a:xfrm>
            <a:off x="1676520" y="533520"/>
            <a:ext cx="4572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ниверзитет у Крaгујев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АКУЛТЕТ МЕДИЦИНСКИХ 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основу резултат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рењ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етљивости  зглоб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ерапеут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познаје са тренутн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етљивошћу у том зглоб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атује одступања од нормалних вредност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ше успешност третмана у процесу оспособљавања пациј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етљивост већу од нормалне називамо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иперпокретљивошћ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лакситет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аничења покретљивости у неком зглобу називамо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нтрактурама. 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3bfbf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r>
              <a:rPr b="1" lang="sr-CS" sz="4000" spc="-1" strike="noStrike">
                <a:solidFill>
                  <a:srgbClr val="63bfbf"/>
                </a:solidFill>
                <a:latin typeface="Times New Roman"/>
                <a:ea typeface="Times New Roman"/>
              </a:rPr>
              <a:t>	</a:t>
            </a:r>
            <a:r>
              <a:rPr b="1" lang="sr-CS" sz="4000" spc="-1" strike="noStrike">
                <a:solidFill>
                  <a:srgbClr val="63bfbf"/>
                </a:solidFill>
                <a:latin typeface="Times New Roman"/>
                <a:ea typeface="Times New Roman"/>
              </a:rPr>
              <a:t>	</a:t>
            </a:r>
            <a:r>
              <a:rPr b="1" lang="sr-CS" sz="40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МЕРНИ  ИНСТРУМЕНТ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2193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Основни мерни инструмент мерење обима покрета је угломер или гониомет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зражава најчешће у степен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Најчешће се корис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Класични угл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Гравитациони угл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Сантиметарска пантљ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АНАЛИЗА ПОКР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ffff"/>
                </a:solidFill>
                <a:uFillTx/>
                <a:latin typeface="Arial"/>
              </a:rPr>
              <a:t>ОБУХВАТ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рсту покр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аван  у којој се изводе покре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Обим покрета анализираног сег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Тестирање мишића који учествују у извођењу покр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нализу зглобова који учествују у покрету и нерава који инервишу мускулату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Од чега зависи обим покр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натомске грађе згл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налаза на лигаментима, тетивама и мишић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утренира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та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конституционалне  особ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ерење активне и пасивне покретљи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глоб у неутралном (нултом) положају (0 степен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Неутрални положаји за мер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Мерење обима покрета зглоба врши се тако што угломер постављамо на сегмент пратећи његову уздужну осови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ре мерења зглоб доведемо у неутрални положај (који је одређен за сваки зглоб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Неутрални положај је анатомски положај тела односно управни став човека са испруженим рукама поред тела, увученим трбухом , паралелно постављеним доњим ексремитетима и стопалима и погледом право (Франкфурска раван, паралелна са подлого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C:\Users\User\Desktop\skelet.jpg"/>
          <p:cNvPicPr/>
          <p:nvPr/>
        </p:nvPicPr>
        <p:blipFill>
          <a:blip r:embed="rId1"/>
          <a:stretch/>
        </p:blipFill>
        <p:spPr>
          <a:xfrm>
            <a:off x="4800600" y="-15011280"/>
            <a:ext cx="300204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ПОКРЕТИ КИЧМЕНОГ СТУ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штана осовина трупа и чврст ослонац за покрете ГЕ, ДЕ и гла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едује и чврстину (заштитина улог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срце, плућ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и значајну покретљив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окретљивост између два суседна пршљена је минимална, али покрети у целини имају већу амплитуду (збир већег броја малих покре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КИЧМЕНИ СТУ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е га пршљенови чији број износи 33-34 (вратних 7, грудних 12 слабинских 5, крсних, 4-5 тртични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ђусобно су повезани телима, попречним наставцима који носе зглобне површине,ртним наставцима и луков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 ови делови су спојени у јединствену флексибилну коштану пол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Шта утиче на покретљивос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475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ј пршљенова (већи број на одређеном простору већа покретљив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сина тела пршљ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сина ив дискуса (већа висина већа покретљив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ина попречних наставака (ужи наставци већи обим покре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жина,ширина и положај спинозних наставака (краћи,ужи и хоризонтаног положаја већи покр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жина мишића,лигамена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чник тела пршљена (мањи пречник већи обим покре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ик и грађа грудног ко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хабилитације је процес развоја способности особе до њених максималних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ки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олошких 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социјални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гућ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атран у сагиталној равни кичмени стуб има облик издуженог слов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вратна лордоза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lordosis cervicalis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грудна кифоза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kyphosis thoracalis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слабинска лордоза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29ffff"/>
                </a:solidFill>
                <a:latin typeface="Arial"/>
              </a:rPr>
              <a:t>lordosis lumbalis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АНАЛИЗА ПОКРЕТА ВРАТНОГ ДЕЛА КИЧ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рети главе и врата изводе се у горњем и доњем зглобу главе и у вратном делу кичменог стуб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гући покрети су: флексија и екстензија, бочна флексија десно и лево као и ротација главе десно и ле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тни део кичменог стуба је најпокретљивији захваљујући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ом броју пршљенова на малом прост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соким ив дискус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ом пречнику тела пршље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тким и скоро паралелно постављеним спинозним    наставц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 хоризонтално постављеним зглобним површинама попречних настав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бавим везама између зглобних површ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ђено већом покретљивошћу вратног дела кичменог ст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ПОКРЕТЉИВОСТ ТОРАКАЛНЕ КИЧ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стоји се од 12 пршљен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ТОРАКАЛНИ ПРШЉЕ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тни наставци су дугачки и ко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еђупршљенски дискуси су ни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глобови са ребрима такође смањују покретљив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атерална флексија је 30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отација износи 20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6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рудни део кичменог стуба је најмање покретљив због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ојева ребара за пршљенска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вертикално постављеним зглобним површинама попречних настав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великим пречником тела грудних пршље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јако укошеним спинозним наставц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иским ив дискус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атезањем лигамената 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адње стране кичменог стуб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ПОКРЕТЉИВОСТ ЛУМБАЛНЕ КИЧ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еђупршљенски дискуси су високи, нарочито између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5 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пречни наставци су уз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тни наставци су паралел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Флексија - 40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кстензија - 30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атерална флексија 25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отација - 10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Циљеви рехабилитациј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тпуни опоравак фун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Обука пацијента обављању активностима дневног живота са смањено функционалношћ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Компензација губитка појединих функција новим моторичким обрасцима или употреба помаг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мбална кичма је по покретљивости измеђ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окретн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тног дела и слабо покретног грудног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ретљивост је омогућен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ативно високим ив дискус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 вертикалним положајем зглобних површина попречних настав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заним попречним наставц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лелно постављеним спинозним наставц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9ffff"/>
                </a:solidFill>
                <a:latin typeface="Arial"/>
              </a:rPr>
              <a:t>ПОКРЕТЉИВОСТ КУКА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286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чни појас има значајну биомеханичку улогу у статици и динамици човековог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п је преко сакралне кости спојен са карличним појасом и он му служи као чврст ослонац при покрет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њи екстремитети су преко кукова спојени са карличним појасом и покрети у ДЕ имају свој ослонац и полазиште у  карличом појас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ца са куковима чини јединствену целину и покрети су им усклађени и утичу једни на дру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Зглоб кука спаја труп са доњим екстремитет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Граде га глава бутне кости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aput femoris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) и зглобна чашица карличне кости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cetabulum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Зглоб је обавијен зглобном капсулом која је појачана лигамент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lig.iliofemorale-Bertini, lig.ishiofemorale, lig.pubofemorale)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Лоптаст облик главе фемура (2/3 лопте) и издубљена површина ацетабулума омогућавају велику амплитуду покр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Зглоб кука спада у троосовинске зглобове и могући су покрети у све три равни ,око све три осовин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9ffff"/>
                </a:solidFill>
                <a:latin typeface="Arial"/>
              </a:rPr>
              <a:t>ВРСТЕ ПОКРЕ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 0-90-120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 0-10-20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 0-45-60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 0-30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o externa 0-45-50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o interna 0-30-45 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mduc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9ffff"/>
                </a:solidFill>
                <a:latin typeface="Arial"/>
              </a:rPr>
              <a:t>МИШИЋИ КОЈИ ВРШЕ</a:t>
            </a:r>
            <a:br>
              <a:rPr sz="4000"/>
            </a:br>
            <a:r>
              <a:rPr b="0" lang="sr-RS" sz="4000" spc="-1" strike="noStrike">
                <a:solidFill>
                  <a:srgbClr val="29ffff"/>
                </a:solidFill>
                <a:latin typeface="Arial"/>
              </a:rPr>
              <a:t> ПОКРЕТЕ У КУК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ffff"/>
                </a:solidFill>
                <a:uFillTx/>
                <a:latin typeface="Arial"/>
              </a:rPr>
              <a:t>flexio</a:t>
            </a:r>
            <a:r>
              <a:rPr b="0" lang="en-US" sz="1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iliopso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tensor fasciae lat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sartori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pectin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rectus femo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adductor longus et brev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ffff"/>
                </a:solidFill>
                <a:uFillTx/>
                <a:latin typeface="Arial"/>
              </a:rPr>
              <a:t>extens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gluteus maxi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biceps femoris ,caput long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semitendino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semimembrano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adductor mag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pirifor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quadratus femo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abducti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aximus-gornji snop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edius et mini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pirifor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tensor fasciae lat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adduct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adductor magnus,longus,brevis et mini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aximus-donji snop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pectin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raci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semimembranosus et semitendino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biceps femoris,caput long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iliopso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obturatorius extern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C:\Users\User\Desktop\F2v6b8QdKSRFz8hH5lq8sw_5M55bq1qMC_M._sartorius_NN_1.png"/>
          <p:cNvPicPr/>
          <p:nvPr/>
        </p:nvPicPr>
        <p:blipFill>
          <a:blip r:embed="rId1"/>
          <a:stretch/>
        </p:blipFill>
        <p:spPr>
          <a:xfrm>
            <a:off x="7238880" y="1600200"/>
            <a:ext cx="1481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rotatio exter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iliopso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axi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inimus et med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pirifor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obturatorius externus et intern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sartor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emellus sup.et in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rotatio inter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edius ,srednji snop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gluteus minimus,prednji snop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tensor fasciae lat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adductor magnus,donjim snopov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670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Испитивање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спољашње</a:t>
            </a:r>
            <a:r>
              <a:rPr b="0" lang="sr-Latn-C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sr-Latn-C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унутрашње</a:t>
            </a:r>
            <a:r>
              <a:rPr b="0" lang="sr-Latn-C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ротације</a:t>
            </a:r>
            <a:r>
              <a:rPr b="0" lang="sr-Latn-C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800" spc="-1" strike="noStrike">
                <a:solidFill>
                  <a:srgbClr val="ccecff"/>
                </a:solidFill>
                <a:latin typeface="Arial"/>
              </a:rPr>
              <a:t>кук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36482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ffff"/>
                </a:solidFill>
                <a:latin typeface="Arial"/>
              </a:rPr>
              <a:t>ПОКРЕТЉИВОСТ ЗГЛОБ КОЛ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Када се врши процена функционал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процена тренутног функционалног ст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процена ефикасности текућих терапиј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поступака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(КТ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процена стања по завршетку терап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последице на свакодневну животну акт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а) тренут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б) касниј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е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ено је највећи зглоб у нашем организ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сте повреде коленог зглоба,нарочито лигамената и мениску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а механичког аспекта  зглоб колен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ада у једноосовинске зглобове са великом амплитудом покрета у сагиталној рав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 састав зглоба улазе три к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фемур са својом доњом епифиз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ибија са горњом епифи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 патела која са кондил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фемура чи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t. patellofemoral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окрети у коленом зглобу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 0-120⁰-14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0​​​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 0 - 10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асивни покрети у коленом зглобу се могу повећати з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15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Мишићи који врше</a:t>
            </a:r>
            <a:br>
              <a:rPr sz="4400"/>
            </a:br>
            <a:r>
              <a:rPr b="0" lang="sr-RS" sz="4400" spc="-1" strike="noStrike">
                <a:solidFill>
                  <a:srgbClr val="29ffff"/>
                </a:solidFill>
                <a:latin typeface="Arial"/>
              </a:rPr>
              <a:t> покрете у зглобу колен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ffff"/>
                </a:solidFill>
                <a:uFillTx/>
                <a:latin typeface="Arial"/>
              </a:rPr>
              <a:t>flex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biceps femoris * m.sartori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semimembranosus * m.poplite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semitendinosus * m.gracil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ffff"/>
                </a:solidFill>
                <a:uFillTx/>
                <a:latin typeface="Arial"/>
              </a:rPr>
              <a:t>extens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.quadriceps femor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tus iliotibialis-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има га само ч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Значајан је јер појачава бочну стабилност колена, која је изузетно значајна за одржавање усправног положа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9ffff"/>
                </a:solidFill>
                <a:latin typeface="Arial"/>
              </a:rPr>
              <a:t>ПОКРЕТЉИВОСТ СКОЧНИ ЗГЛОБ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чни зглоб припада сложеним зглобов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 да издржи велика оптерећ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ети: флексије и екстенз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Горњи скочни зглоб (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t.taocruralis)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чине доњи окрајци тибије и фибуле и горња зглобна површина скочне кости –талу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огући покрети флексије и екстенз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оњи ножни зглоб (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t.talo-calcaneo-navicularis s.art.subtalari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) чине доња зглобна површина талуса и горње зглобне површине калканеуса и навикуларне 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 овом зглобу се врше покрети увртања према споља и уну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РСТЕ ПОКРЕТ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lexio dorsalis 0-20-30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lexio plantaris 0-30-50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versio 0-30-50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versio 0-25-50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4572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рсте покре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o dorsalis 0-20-30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o plantaris 0-30-50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sio 0-30-50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nversio 0-25-50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flexio 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tibialis 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extensor halluci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extensor digit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peroneus tert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flexio plantar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plant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triceps sur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tibialis p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flexor digitorum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flexor halluci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peroneus longus et b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8006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eversi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peroneus longus,brevis et tert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ffff"/>
                </a:solidFill>
                <a:uFillTx/>
                <a:latin typeface="Arial"/>
              </a:rPr>
              <a:t>inversi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tibialis 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tibialis p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m.extensor halluci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29ffff"/>
                </a:solidFill>
                <a:uFillTx/>
                <a:latin typeface="Arial"/>
              </a:rPr>
              <a:t>ИЗРАДА ПЛАНА МЕДИЦИНСКЕ РЕХАБИЛИТАЦ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Анамне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Физикални прег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Евалуаци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ф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ункција локомоторног а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Оце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психосоцијалних могућ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7398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пало гради велики број ситних костију (26) које су међусобно повезане у јединствену флексибилну коштану пол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току еволуције усправног става повећано је оптерећење стоп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РАЂА СТОПАЛА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Кости првог реда ножја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- os talus,os calcaneus,os cuboid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Ko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ти другог реда ножја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- ossa cuneiformia I-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етатарзалне кости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- ossa metatarsalia I-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Фаланге прстију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- II-V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рст има по 3 фаланге, палац има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0492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У стојећем ставу стопало се ослања на три тачке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tuber calcan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capitulum ossis metatarsalis I et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ђу ових тачака налазе се сводови стоп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здужни (лонгитудинал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-формиран је од два лука,спољашњег и унутрашњ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и сводови се спуштају од унутрашње ка спољашњој ивици стопала,а проширују од пете према предњем делу стоп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* попречни св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ају га главице метатарзалних костиј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д има ослонце у главицам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татарзалне 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ffff"/>
                </a:solidFill>
                <a:latin typeface="Arial"/>
              </a:rPr>
              <a:t>ПОКРЕТЉИВОСТ РАМЕНОГ ЗГЛОБ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Грађа је потпуно подешена функцији горњих екстрем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t.sternoclavicu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2. art.acromioclavicu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3. art.glenohumera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ffff"/>
                </a:solidFill>
                <a:latin typeface="Arial"/>
              </a:rPr>
              <a:t>Art.sternoclavicul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Изводе се покре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 водоравној равни  напред-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 фронаталној равни горе-д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окрет обртања клавикуле око своје о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ffff"/>
                </a:solidFill>
                <a:latin typeface="Arial"/>
              </a:rPr>
              <a:t>Art.acromioclavicul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Минимално покретан, изводе се покрети лопатице заједно са клавикулом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практично га сматрамо непокрет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9ffff"/>
                </a:solidFill>
                <a:latin typeface="Arial"/>
              </a:rPr>
              <a:t>art.gleno-humeral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Зглобне површине су: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avitas glenoidalis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aput hume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Покрети у овом зглобу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Флексија надлакта 180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Екстензија 50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бдукција  95⁰ (уколико се изведе ротација лопатице, абд. се изводи до 155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дукција  20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Унутрашња ротација  80-90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Спољашња ротација  90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глобна чашица је плитка и релативно мала у односу на главу рамене кости. Таква грађа омогућује велику покретљивост али истовремено чини зглоб нестабилиним 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склоним честом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ређивањ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Рамени зглоб је најпокретнији зглоб људског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Обими</a:t>
            </a: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покрета</a:t>
            </a: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раме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29ffff"/>
                </a:solidFill>
                <a:latin typeface="Arial"/>
              </a:rPr>
              <a:t>ПОКРЕТЉИВОСТ ЛАКАТНОГ ЗГЛОБА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1430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ffff"/>
                </a:solidFill>
                <a:latin typeface="Arial"/>
              </a:rPr>
              <a:t>Диј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066680" y="198108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Анамнеза</a:t>
            </a:r>
            <a:r>
              <a:rPr b="0" lang="sr-Latn-C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итуација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еханизам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0" lang="sr-Latn-C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прегле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Допунска дијагностика (РТГ, УЗ, МРИ, артроскопија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катни зглоб је сложени двоосовински зглоб и представља спој костију надлактице и подлакт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рети се врше у две равн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сагитална (флексија и екстенз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хоризонтална (супинација и пронација-врше се у костима подлактиц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катни зглоб чине три зглоба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* art.humero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* art.humero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</a:rPr>
              <a:t>* art.radioulnaris proxim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једничка зглобна капсула обухвата сва три зглоба и они чине јединствену анатомску це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лексија и екстензија се врше у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умероулнарном зглоб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нација и супинација врше у хумерорадијалном и радиоулнарном проксималном и дисталном зглобу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Мерење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обима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покрета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r-RS" sz="4400" spc="-1" strike="noStrike">
                <a:solidFill>
                  <a:srgbClr val="ccecff"/>
                </a:solidFill>
                <a:latin typeface="Arial"/>
              </a:rPr>
              <a:t>лак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38080" y="17524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лексија  0-145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кстензија 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пинација  0-90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нација 0-80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457200" y="1828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9ffff"/>
                </a:solidFill>
                <a:latin typeface="Arial"/>
              </a:rPr>
              <a:t>SCHOBEROV T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6"/>
          <p:cNvSpPr/>
          <p:nvPr/>
        </p:nvSpPr>
        <p:spPr>
          <a:xfrm>
            <a:off x="533520" y="4572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29ffff"/>
                </a:solidFill>
                <a:latin typeface="Arial"/>
              </a:rPr>
              <a:t>ТЕСТОВИ ЗА ИСПИТИВАЊЕ ТОРАКАЛНЕ КИЧ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28600" y="1752480"/>
            <a:ext cx="53341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рење покретљивости торакалног дела кичме врши се помоћу Отовог т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значи с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 пршљен, измери се 3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дистално,након тога пацијент се савије пут напред и поново се измери обележена дужина. Нормално се повећава од 3-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29ffff"/>
                </a:solidFill>
                <a:latin typeface="Arial"/>
              </a:rPr>
              <a:t>ТЕСТ САГИТАЛНЕ ПОКРЕТЉИВОСТИ ЛУМБАЛНОГ ДЕЛА КИЧМЕ</a:t>
            </a:r>
            <a:r>
              <a:rPr b="1" lang="en-US" sz="32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29ff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29ffff"/>
                </a:solidFill>
                <a:latin typeface="Arial"/>
              </a:rPr>
              <a:t>Schob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начава приближно ни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Затим, сантиметарском траком мери и обележава: 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д и 1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над ниво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(укупно 1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аљеност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 пацијента се тражи да додир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је прсте без савијања ко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о се раздаљина од две тачке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ћа за најмање 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је зн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аничене покретљив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мбосакралне кич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2" descr="C:\Users\skevin\Desktop\sanja studenti\Merenje-pokretljivosti-zglobova3-1.jpg"/>
          <p:cNvPicPr/>
          <p:nvPr/>
        </p:nvPicPr>
        <p:blipFill>
          <a:blip r:embed="rId1"/>
          <a:stretch/>
        </p:blipFill>
        <p:spPr>
          <a:xfrm>
            <a:off x="2362320" y="87480"/>
            <a:ext cx="49528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Picture 2" descr="C:\Users\pokon\Downloads\Merenje-pokretljivosti-zglobova3-2.jpg"/>
          <p:cNvPicPr/>
          <p:nvPr/>
        </p:nvPicPr>
        <p:blipFill>
          <a:blip r:embed="rId1"/>
          <a:srcRect l="0" t="0" r="0" b="5229"/>
          <a:stretch/>
        </p:blipFill>
        <p:spPr>
          <a:xfrm>
            <a:off x="2286000" y="122400"/>
            <a:ext cx="5181480" cy="66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497240" y="3357720"/>
            <a:ext cx="6851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29ffff"/>
                </a:solidFill>
                <a:latin typeface="Arial"/>
              </a:rPr>
              <a:t>ХВАЛА НА ПАЖЊИ 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29ffff"/>
                </a:solidFill>
                <a:latin typeface="Arial"/>
              </a:rPr>
              <a:t>ЕВАЛУАЦИЈА</a:t>
            </a:r>
            <a:r>
              <a:rPr b="1" lang="en-US" sz="40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sr-RS" sz="4000" spc="-1" strike="noStrike">
                <a:solidFill>
                  <a:srgbClr val="29ffff"/>
                </a:solidFill>
                <a:latin typeface="Arial"/>
              </a:rPr>
              <a:t>ФУНКЦИЈА</a:t>
            </a:r>
            <a:r>
              <a:rPr b="1" lang="en-US" sz="40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sr-RS" sz="4000" spc="-1" strike="noStrike">
                <a:solidFill>
                  <a:srgbClr val="29ffff"/>
                </a:solidFill>
                <a:latin typeface="Arial"/>
              </a:rPr>
              <a:t>ЛОКОМОТОРНОГ</a:t>
            </a:r>
            <a:r>
              <a:rPr b="1" lang="en-US" sz="40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sr-RS" sz="4000" spc="-1" strike="noStrike">
                <a:solidFill>
                  <a:srgbClr val="29ffff"/>
                </a:solidFill>
                <a:latin typeface="Arial"/>
              </a:rPr>
              <a:t>АПАРА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Мерење покретљивости зглоб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Испитивање функције мишића мануелним мишићним тестом (ММ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стирање способности извођења активности дневнога живота (АДЖ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лиза постуре тела (процена држ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лиза (процена) х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29ffff"/>
                </a:solidFill>
                <a:latin typeface="Arial"/>
              </a:rPr>
              <a:t>Мерење покретљивости зглобо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овна механичка особина зглобо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окретљивос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ење обима покрета у зглобовима представља основну дијагностичк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у коју терапеут користи у својој свакодневној пракси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8:52:30Z</dcterms:created>
  <dc:creator>Veljkovic Miodrag</dc:creator>
  <dc:description/>
  <dc:language>en-US</dc:language>
  <cp:lastModifiedBy>Windows User</cp:lastModifiedBy>
  <dcterms:modified xsi:type="dcterms:W3CDTF">2020-02-12T09:12:06Z</dcterms:modified>
  <cp:revision>346</cp:revision>
  <dc:subject/>
  <dc:title>MEDICINSKA REHABILITACIJA</dc:title>
</cp:coreProperties>
</file>